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C825-8BE9-4C72-A177-B533B96019B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9486-4D00-4EDC-A1EC-89EEE6AEEB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4C51-05BD-4A65-929C-FC44F3CA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7A0D-CD22-4809-8AB9-E72D8E37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FBE-92AE-4A58-8E48-451CEA56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6A24-9643-4C46-A4DA-2FF30D3B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596-638B-4474-8347-77091573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23BF-572C-424B-B379-6B61A51F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7552-7D90-4A35-BEEF-F3AA6CFC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34C6-F45F-4732-ABD4-68413C9F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A6F5-8227-4F9E-9073-EDFA6307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649B-E901-4C6C-8463-53E75A45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2123-7F07-4BEA-833E-E8183908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08A5-C757-45C0-BFDE-1B2770F6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B608-B988-4992-ACE3-5CB028C3F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27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018 ADC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1104840"/>
            <a:ext cx="9144000" cy="5203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836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5-27 July 2018 (W-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henyang, P.R.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307440" y="6443640"/>
            <a:ext cx="84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for TC6.1 meeting at 2017 IFAC World Congress, Toulouse (11 July 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IFAC logo.jpg"/>
          <p:cNvPicPr/>
          <p:nvPr/>
        </p:nvPicPr>
        <p:blipFill>
          <a:blip r:embed="rId2"/>
          <a:stretch/>
        </p:blipFill>
        <p:spPr>
          <a:xfrm>
            <a:off x="31680" y="210960"/>
            <a:ext cx="1731960" cy="696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7402680" y="1382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urist At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水洞"/>
          <p:cNvPicPr/>
          <p:nvPr/>
        </p:nvPicPr>
        <p:blipFill>
          <a:blip r:embed="rId1"/>
          <a:stretch/>
        </p:blipFill>
        <p:spPr>
          <a:xfrm>
            <a:off x="108000" y="1197000"/>
            <a:ext cx="9036000" cy="5572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8"/>
          <p:cNvSpPr/>
          <p:nvPr/>
        </p:nvSpPr>
        <p:spPr>
          <a:xfrm>
            <a:off x="250920" y="134136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xi Cave (1 day to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al Tourist At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水洞123"/>
          <p:cNvPicPr/>
          <p:nvPr/>
        </p:nvPicPr>
        <p:blipFill>
          <a:blip r:embed="rId1"/>
          <a:stretch/>
        </p:blipFill>
        <p:spPr>
          <a:xfrm>
            <a:off x="611280" y="1268280"/>
            <a:ext cx="1993680" cy="229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3276720" y="1268280"/>
            <a:ext cx="2087280" cy="2297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8"/>
          <p:cNvSpPr/>
          <p:nvPr/>
        </p:nvSpPr>
        <p:spPr>
          <a:xfrm>
            <a:off x="539640" y="378936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xi water tunnel 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本溪水洞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3203640" y="3789360"/>
            <a:ext cx="25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anmen Mountai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关门山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4" descr=""/>
          <p:cNvPicPr/>
          <p:nvPr/>
        </p:nvPicPr>
        <p:blipFill>
          <a:blip r:embed="rId3"/>
          <a:stretch/>
        </p:blipFill>
        <p:spPr>
          <a:xfrm>
            <a:off x="6084720" y="1268280"/>
            <a:ext cx="230364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8"/>
          <p:cNvSpPr/>
          <p:nvPr/>
        </p:nvSpPr>
        <p:spPr>
          <a:xfrm>
            <a:off x="6084720" y="378936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bai Mountai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长白山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"/>
          <p:cNvPicPr/>
          <p:nvPr/>
        </p:nvPicPr>
        <p:blipFill>
          <a:blip r:embed="rId4"/>
          <a:stretch/>
        </p:blipFill>
        <p:spPr>
          <a:xfrm>
            <a:off x="971640" y="4292640"/>
            <a:ext cx="3024000" cy="1800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8"/>
          <p:cNvSpPr/>
          <p:nvPr/>
        </p:nvSpPr>
        <p:spPr>
          <a:xfrm>
            <a:off x="1116000" y="623736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ian Ice Valley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大连冰峪沟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9" descr=""/>
          <p:cNvPicPr/>
          <p:nvPr/>
        </p:nvPicPr>
        <p:blipFill>
          <a:blip r:embed="rId5"/>
          <a:stretch/>
        </p:blipFill>
        <p:spPr>
          <a:xfrm>
            <a:off x="4859280" y="4292640"/>
            <a:ext cx="2951280" cy="1820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8"/>
          <p:cNvSpPr/>
          <p:nvPr/>
        </p:nvSpPr>
        <p:spPr>
          <a:xfrm>
            <a:off x="4859280" y="6237360"/>
            <a:ext cx="3024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torical town of Hetuala in Fush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抚顺赫图阿拉老城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ponsor: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ortheastern Un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472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eastern University (NEU), founded in April, 192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me of the State Key Laboratory on advanced control research for process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主楼夜景"/>
          <p:cNvPicPr/>
          <p:nvPr/>
        </p:nvPicPr>
        <p:blipFill>
          <a:blip r:embed="rId1"/>
          <a:stretch/>
        </p:blipFill>
        <p:spPr>
          <a:xfrm>
            <a:off x="19080" y="2852640"/>
            <a:ext cx="4697280" cy="404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建筑馆"/>
          <p:cNvPicPr/>
          <p:nvPr/>
        </p:nvPicPr>
        <p:blipFill>
          <a:blip r:embed="rId2"/>
          <a:stretch/>
        </p:blipFill>
        <p:spPr>
          <a:xfrm>
            <a:off x="4660920" y="2881440"/>
            <a:ext cx="4519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CHEM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907560"/>
            <a:ext cx="91440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5 Whistler, British Columbia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 Singap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009 Istanb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2006 Gram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2003 Hong K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2000 P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997 Banff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4 Ky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91 Toul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88 Lyngby (Adaptive Control of Chemical Pro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5 Frankfurt (Adaptive Control of Chemical Pro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IFAC logo.jpg"/>
          <p:cNvPicPr/>
          <p:nvPr/>
        </p:nvPicPr>
        <p:blipFill>
          <a:blip r:embed="rId1"/>
          <a:stretch/>
        </p:blipFill>
        <p:spPr>
          <a:xfrm>
            <a:off x="249120" y="115920"/>
            <a:ext cx="173052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2018 ADCHEM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18 IFAC ADCHEM on 25-27 July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llowed by the Chinese Process Control Conference (CPCC) on 28-29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ect 400 participants for ADCHEM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ect 800 participants for CPCC in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ractions with the large Chinese process control comm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anquet and lunches inclu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nue/Hotels: Wanxi Hotel and Sof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8101080" y="1700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981000"/>
            <a:ext cx="8928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18 IFAC ADCHEM on 25-27 July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inese Process Control Conference, 28-29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raft papers submiss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0 Sept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ceptance Notificat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1 Jan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al papers submiss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1 March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al program available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 April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conference: selected papers invited for a special issue of the Journal of 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2494080" y="6093000"/>
            <a:ext cx="42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adchem2018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640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OC Honorary Chair: Tianyou Chai (NE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OC Chair: S. Joe Q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MS PGothic"/>
              </a:rPr>
              <a:t>Co-Chair: Jinliang Ding (N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MS PGothic"/>
              </a:rPr>
              <a:t>Secretariat: Qiang Liu (N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PC Chair: B. Wayne Bequette (R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-Chair: Furong Gao (HKU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Area Co-Chai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ry Biegler (USA), Scheduling and Optim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f Findeisen (GER), Model-based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Guay (CAN), Modeling and Identif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Bagterp Jørgensen (DEN), Process Appl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ltan Nagy (USA), Batch Proc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n Wang (USA), Big Data Analytics and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 Zavala (USA), Energy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lace: Shenyang, China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largest city of Northeast Ch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rgest airport of the northeas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rect flights from major Asian cities and Frankfurt,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nue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4149720"/>
            <a:ext cx="9186840" cy="2570040"/>
          </a:xfrm>
          <a:prstGeom prst="rect">
            <a:avLst/>
          </a:prstGeom>
          <a:ln w="0">
            <a:noFill/>
          </a:ln>
        </p:spPr>
      </p:pic>
      <p:sp>
        <p:nvSpPr>
          <p:cNvPr id="69" name="Line Callout 1 (Accent Bar) 1"/>
          <p:cNvSpPr/>
          <p:nvPr/>
        </p:nvSpPr>
        <p:spPr>
          <a:xfrm>
            <a:off x="2484360" y="3500280"/>
            <a:ext cx="1727280" cy="86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xin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Callout 1 (Accent Bar) 7"/>
          <p:cNvSpPr/>
          <p:nvPr/>
        </p:nvSpPr>
        <p:spPr>
          <a:xfrm>
            <a:off x="4938840" y="4581360"/>
            <a:ext cx="172692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itel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enue and Hote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Wanxin Hotel and Sofitel Ho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are five stars next to each 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 minutes from the Shenyang Air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 minutes from the high-speed train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ference Venue: Wanx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anxin: Negotiated rate about $70/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fitel: Negotiated rate about $100/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Need show-hands on preference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xin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7051680" cy="470376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6" descr=""/>
          <p:cNvPicPr/>
          <p:nvPr/>
        </p:nvPicPr>
        <p:blipFill>
          <a:blip r:embed="rId2"/>
          <a:stretch/>
        </p:blipFill>
        <p:spPr>
          <a:xfrm>
            <a:off x="539640" y="1947960"/>
            <a:ext cx="6667560" cy="4448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1338120" y="2227320"/>
            <a:ext cx="6667560" cy="4448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4"/>
          <a:stretch/>
        </p:blipFill>
        <p:spPr>
          <a:xfrm>
            <a:off x="2332080" y="2503440"/>
            <a:ext cx="684828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itel Sheny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" descr=""/>
          <p:cNvPicPr/>
          <p:nvPr/>
        </p:nvPicPr>
        <p:blipFill>
          <a:blip r:embed="rId2"/>
          <a:stretch/>
        </p:blipFill>
        <p:spPr>
          <a:xfrm>
            <a:off x="0" y="1600200"/>
            <a:ext cx="5764320" cy="38448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6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5759640" cy="41018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"/>
          <p:cNvPicPr/>
          <p:nvPr/>
        </p:nvPicPr>
        <p:blipFill>
          <a:blip r:embed="rId4"/>
          <a:stretch/>
        </p:blipFill>
        <p:spPr>
          <a:xfrm>
            <a:off x="1765440" y="2281320"/>
            <a:ext cx="510048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2" descr=""/>
          <p:cNvPicPr/>
          <p:nvPr/>
        </p:nvPicPr>
        <p:blipFill>
          <a:blip r:embed="rId5"/>
          <a:stretch/>
        </p:blipFill>
        <p:spPr>
          <a:xfrm>
            <a:off x="2357280" y="2682720"/>
            <a:ext cx="5772240" cy="4124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"/>
          <p:cNvPicPr/>
          <p:nvPr/>
        </p:nvPicPr>
        <p:blipFill>
          <a:blip r:embed="rId6"/>
          <a:stretch/>
        </p:blipFill>
        <p:spPr>
          <a:xfrm>
            <a:off x="5137200" y="1606680"/>
            <a:ext cx="4006800" cy="5875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34920" y="1870200"/>
            <a:ext cx="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1:29:50Z</dcterms:created>
  <dc:creator>MC SYSTEM</dc:creator>
  <dc:description/>
  <dc:language>en-US</dc:language>
  <cp:lastModifiedBy>Microsoft account</cp:lastModifiedBy>
  <dcterms:modified xsi:type="dcterms:W3CDTF">2017-07-11T11:57:06Z</dcterms:modified>
  <cp:revision>88</cp:revision>
  <dc:subject/>
  <dc:title>2009 IEEE 自动化和物流国际会议申办书</dc:title>
</cp:coreProperties>
</file>